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B43-FDDB-4D6F-9B14-8386F41115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8604-7D6F-458F-827C-9CC8C15B33F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909-E1F8-4387-9817-508DFA39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398-B7AC-4BAA-86A1-A83E3352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EEB-2653-4B92-A8EA-0DD3F5C2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BB6-C700-4AA6-8D84-461ED5BE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77E-7C12-47FA-804A-1AABA46D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67C-D790-497E-8E01-63009471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20E-D9B1-4583-9706-93B35D18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B5E-B2C9-4714-999F-F72A0908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414-7E2A-466D-9F29-D5DC41E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7F8-34AF-43CF-86F7-5E6B5D3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21E-21BB-44EC-AD75-B7DE4B5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C7C-E5FA-4A34-B5A6-A7E46C1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2760-C59B-4124-A229-05666B8ED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Урок 5 (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Lesson 5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6ED2-1CAC-46AD-92B0-A35C07A953C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ÐÐ±ÑÑÐµÐ½Ð¸Ðµ ÑÑÑÑÐºÐ¾Ð¼Ñ ÑÐ·ÑÐºÑ Ð¿Ð¾ ÑÐºÐ°Ð¹Ð¿Ñ | ÐÐ·ÑÑÐ°ÐµÐ¼ ÑÑÑÑÐºÐ¸Ð¹ Ð¾Ð½Ð»Ð°Ð¹Ð½ | Ð£ÑÐ¾ÐºÐ¸ ..."/>
          <p:cNvPicPr/>
          <p:nvPr/>
        </p:nvPicPr>
        <p:blipFill>
          <a:blip r:embed="rId1"/>
          <a:stretch/>
        </p:blipFill>
        <p:spPr>
          <a:xfrm>
            <a:off x="2428920" y="292896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ровать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тудент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le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тудентк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emale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инута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-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in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ртина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-   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вартир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lat,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0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06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www.volganet.ru/export/sites/volga/news/news/images2013/metrotram.png"/>
          <p:cNvPicPr/>
          <p:nvPr/>
        </p:nvPicPr>
        <p:blipFill>
          <a:blip r:embed="rId1"/>
          <a:stretch/>
        </p:blipFill>
        <p:spPr>
          <a:xfrm>
            <a:off x="0" y="1214280"/>
            <a:ext cx="2071800" cy="150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http://www.fs.uspb.ru/tiu79.jpg"/>
          <p:cNvPicPr/>
          <p:nvPr/>
        </p:nvPicPr>
        <p:blipFill>
          <a:blip r:embed="rId2"/>
          <a:stretch/>
        </p:blipFill>
        <p:spPr>
          <a:xfrm>
            <a:off x="2143080" y="1214280"/>
            <a:ext cx="1928880" cy="1467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Акварели Васнецова приказано сжечь"/>
          <p:cNvPicPr/>
          <p:nvPr/>
        </p:nvPicPr>
        <p:blipFill>
          <a:blip r:embed="rId3"/>
          <a:stretch/>
        </p:blipFill>
        <p:spPr>
          <a:xfrm>
            <a:off x="4143240" y="1285920"/>
            <a:ext cx="1143000" cy="150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ome\Desktop\images.jpg"/>
          <p:cNvPicPr/>
          <p:nvPr/>
        </p:nvPicPr>
        <p:blipFill>
          <a:blip r:embed="rId4"/>
          <a:stretch/>
        </p:blipFill>
        <p:spPr>
          <a:xfrm>
            <a:off x="6572160" y="1214280"/>
            <a:ext cx="121464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home\Desktop\274px-Illu_long_bone.jpg"/>
          <p:cNvPicPr/>
          <p:nvPr/>
        </p:nvPicPr>
        <p:blipFill>
          <a:blip r:embed="rId5"/>
          <a:stretch/>
        </p:blipFill>
        <p:spPr>
          <a:xfrm>
            <a:off x="5286240" y="1285920"/>
            <a:ext cx="1214640" cy="18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home\Desktop\Без названия.jpg"/>
          <p:cNvPicPr/>
          <p:nvPr/>
        </p:nvPicPr>
        <p:blipFill>
          <a:blip r:embed="rId6"/>
          <a:stretch/>
        </p:blipFill>
        <p:spPr>
          <a:xfrm>
            <a:off x="0" y="2786040"/>
            <a:ext cx="2571840" cy="157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home\Desktop\clp3148592.jpg"/>
          <p:cNvPicPr/>
          <p:nvPr/>
        </p:nvPicPr>
        <p:blipFill>
          <a:blip r:embed="rId7"/>
          <a:stretch/>
        </p:blipFill>
        <p:spPr>
          <a:xfrm>
            <a:off x="4929120" y="4857840"/>
            <a:ext cx="2028960" cy="15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home\Desktop\students-in-classroom.jpg"/>
          <p:cNvPicPr/>
          <p:nvPr/>
        </p:nvPicPr>
        <p:blipFill>
          <a:blip r:embed="rId8"/>
          <a:stretch/>
        </p:blipFill>
        <p:spPr>
          <a:xfrm>
            <a:off x="2500200" y="4643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home\Desktop\VladaSteblina_kvartira_dlya_sebya_1_1920_full.jpg"/>
          <p:cNvPicPr/>
          <p:nvPr/>
        </p:nvPicPr>
        <p:blipFill>
          <a:blip r:embed="rId9"/>
          <a:stretch/>
        </p:blipFill>
        <p:spPr>
          <a:xfrm>
            <a:off x="2714760" y="292896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home\Desktop\Без названия (1).jpg"/>
          <p:cNvPicPr/>
          <p:nvPr/>
        </p:nvPicPr>
        <p:blipFill>
          <a:blip r:embed="rId10"/>
          <a:stretch/>
        </p:blipFill>
        <p:spPr>
          <a:xfrm>
            <a:off x="7358040" y="3214800"/>
            <a:ext cx="1643040" cy="13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Users\home\Desktop\Без названия.png"/>
          <p:cNvPicPr/>
          <p:nvPr/>
        </p:nvPicPr>
        <p:blipFill>
          <a:blip r:embed="rId11"/>
          <a:stretch/>
        </p:blipFill>
        <p:spPr>
          <a:xfrm>
            <a:off x="7786800" y="1214280"/>
            <a:ext cx="1357200" cy="1857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Users\home\Desktop\Без названия (2).jpg"/>
          <p:cNvPicPr/>
          <p:nvPr/>
        </p:nvPicPr>
        <p:blipFill>
          <a:blip r:embed="rId12"/>
          <a:stretch/>
        </p:blipFill>
        <p:spPr>
          <a:xfrm>
            <a:off x="0" y="4643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Users\home\Desktop\Без названия (3).jpg"/>
          <p:cNvPicPr/>
          <p:nvPr/>
        </p:nvPicPr>
        <p:blipFill>
          <a:blip r:embed="rId13"/>
          <a:stretch/>
        </p:blipFill>
        <p:spPr>
          <a:xfrm>
            <a:off x="7062840" y="4857840"/>
            <a:ext cx="1938240" cy="1338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7" descr="C:\Users\home\Desktop\590511cf6265e0f1e1eb438dc5116bda.jpg"/>
          <p:cNvPicPr/>
          <p:nvPr/>
        </p:nvPicPr>
        <p:blipFill>
          <a:blip r:embed="rId14"/>
          <a:stretch/>
        </p:blipFill>
        <p:spPr>
          <a:xfrm>
            <a:off x="5286240" y="3286080"/>
            <a:ext cx="2000520" cy="1357200"/>
          </a:xfrm>
          <a:prstGeom prst="rect">
            <a:avLst/>
          </a:prstGeom>
          <a:ln w="0">
            <a:noFill/>
          </a:ln>
        </p:spPr>
      </p:pic>
      <p:pic>
        <p:nvPicPr>
          <p:cNvPr id="97" name="11" descr=""/>
          <p:cNvPicPr/>
          <p:nvPr/>
        </p:nvPicPr>
        <p:blipFill>
          <a:blip r:embed="rId1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лова мужского рода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день, гость, дядя, дедушк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s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asculine g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лова женского рода: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ать, кость, тетрадь, кровать, тёт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s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eminine gender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1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148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714680"/>
            <a:ext cx="87152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 мой дедушка. Это о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 моя бабушка. Это о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 мой дядя. Это 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 моя тётя.  Это 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 мой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екан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. Это он</a:t>
            </a:r>
            <a:r>
              <a:rPr b="0" i="1" lang="ru-RU" sz="3200" spc="-1" strike="noStrike">
                <a:solidFill>
                  <a:srgbClr val="632523"/>
                </a:solidFill>
                <a:latin typeface="Calibri"/>
              </a:rPr>
              <a:t>.</a:t>
            </a:r>
            <a:r>
              <a:rPr b="0" i="1" lang="en-US" sz="32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(de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4" descr="pic_1366798258"/>
          <p:cNvPicPr/>
          <p:nvPr/>
        </p:nvPicPr>
        <p:blipFill>
          <a:blip r:embed="rId1"/>
          <a:stretch/>
        </p:blipFill>
        <p:spPr>
          <a:xfrm>
            <a:off x="6715080" y="3286080"/>
            <a:ext cx="2071800" cy="1704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8154809"/>
          <p:cNvPicPr/>
          <p:nvPr/>
        </p:nvPicPr>
        <p:blipFill>
          <a:blip r:embed="rId2"/>
          <a:stretch/>
        </p:blipFill>
        <p:spPr>
          <a:xfrm>
            <a:off x="6500880" y="1643040"/>
            <a:ext cx="2381040" cy="1486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eng20"/>
          <p:cNvPicPr/>
          <p:nvPr/>
        </p:nvPicPr>
        <p:blipFill>
          <a:blip r:embed="rId3"/>
          <a:stretch/>
        </p:blipFill>
        <p:spPr>
          <a:xfrm>
            <a:off x="4714920" y="285768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06" name="1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6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357200" y="1428840"/>
          <a:ext cx="7215480" cy="4572000"/>
        </p:xfrm>
        <a:graphic>
          <a:graphicData uri="http://schemas.openxmlformats.org/drawingml/2006/table">
            <a:tbl>
              <a:tblPr/>
              <a:tblGrid>
                <a:gridCol w="3608640"/>
                <a:gridCol w="3606840"/>
              </a:tblGrid>
              <a:tr h="1171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я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ы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7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ы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ы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н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на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но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ни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–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ичные местоимения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e Personal Pronou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14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874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русском языке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под ударением произносится как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[е]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 ударения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[и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Russian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stress is pronounced as the sou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n unstressed position as the sou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азе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[газета] 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newspaper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ест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[с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истра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1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764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ердце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сень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autu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узей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u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азета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news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зима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акси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ax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16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162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сед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le neighb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седк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emale neighb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естра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емья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-    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еместр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em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газин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hop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44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Mar17201115"/>
          <p:cNvPicPr/>
          <p:nvPr/>
        </p:nvPicPr>
        <p:blipFill>
          <a:blip r:embed="rId1"/>
          <a:stretch/>
        </p:blipFill>
        <p:spPr>
          <a:xfrm>
            <a:off x="3214800" y="3143160"/>
            <a:ext cx="2566800" cy="1578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a_0dc93e60"/>
          <p:cNvPicPr/>
          <p:nvPr/>
        </p:nvPicPr>
        <p:blipFill>
          <a:blip r:embed="rId2"/>
          <a:stretch/>
        </p:blipFill>
        <p:spPr>
          <a:xfrm>
            <a:off x="357120" y="271476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ome\Desktop\unnamed.jpg"/>
          <p:cNvPicPr/>
          <p:nvPr/>
        </p:nvPicPr>
        <p:blipFill>
          <a:blip r:embed="rId3"/>
          <a:stretch/>
        </p:blipFill>
        <p:spPr>
          <a:xfrm>
            <a:off x="6429240" y="1285920"/>
            <a:ext cx="250992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C:\Users\home\Desktop\image_gallery.jpg"/>
          <p:cNvPicPr/>
          <p:nvPr/>
        </p:nvPicPr>
        <p:blipFill>
          <a:blip r:embed="rId4"/>
          <a:stretch/>
        </p:blipFill>
        <p:spPr>
          <a:xfrm>
            <a:off x="3143160" y="1285920"/>
            <a:ext cx="28576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C:\Users\home\Desktop\title-37912-1551303522.jpg"/>
          <p:cNvPicPr/>
          <p:nvPr/>
        </p:nvPicPr>
        <p:blipFill>
          <a:blip r:embed="rId5"/>
          <a:stretch/>
        </p:blipFill>
        <p:spPr>
          <a:xfrm>
            <a:off x="571680" y="4286160"/>
            <a:ext cx="19429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C:\Users\home\Desktop\RIAN_03088963.HR.ru-pic1300-1300x600-43371.jpg"/>
          <p:cNvPicPr/>
          <p:nvPr/>
        </p:nvPicPr>
        <p:blipFill>
          <a:blip r:embed="rId6"/>
          <a:stretch/>
        </p:blipFill>
        <p:spPr>
          <a:xfrm>
            <a:off x="6357960" y="4929120"/>
            <a:ext cx="2357280" cy="14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home\Desktop\images (1).jpg"/>
          <p:cNvPicPr/>
          <p:nvPr/>
        </p:nvPicPr>
        <p:blipFill>
          <a:blip r:embed="rId7"/>
          <a:stretch/>
        </p:blipFill>
        <p:spPr>
          <a:xfrm>
            <a:off x="357120" y="1214280"/>
            <a:ext cx="235764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C:\Users\home\Desktop\depositphotos_50696813-stock-photo-family-playing-soccer-in-park.jpg"/>
          <p:cNvPicPr/>
          <p:nvPr/>
        </p:nvPicPr>
        <p:blipFill>
          <a:blip r:embed="rId8"/>
          <a:stretch/>
        </p:blipFill>
        <p:spPr>
          <a:xfrm>
            <a:off x="6215040" y="2928960"/>
            <a:ext cx="2724120" cy="1790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C:\Users\home\Desktop\15652695576032.jpg"/>
          <p:cNvPicPr/>
          <p:nvPr/>
        </p:nvPicPr>
        <p:blipFill>
          <a:blip r:embed="rId9"/>
          <a:stretch/>
        </p:blipFill>
        <p:spPr>
          <a:xfrm>
            <a:off x="3071880" y="4929120"/>
            <a:ext cx="267660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11" descr=""/>
          <p:cNvPicPr/>
          <p:nvPr/>
        </p:nvPicPr>
        <p:blipFill>
          <a:blip r:embed="rId10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47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лова женского рода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емья, ос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eminine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лова среднего рода: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ердце, такс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euter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19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15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ягкий знак  ь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ft 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tter «soft sign» doesn’t indicate any sound. It is not pronounced. To be used after a consonant it makes this consonant so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0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8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Calibri"/>
              </a:rPr>
              <a:t>Читайте текст</a:t>
            </a:r>
            <a:r>
              <a:rPr b="0" i="1" lang="en-US" sz="3600" spc="-1" strike="noStrike">
                <a:solidFill>
                  <a:srgbClr val="0070c0"/>
                </a:solidFill>
                <a:latin typeface="Calibri"/>
              </a:rPr>
              <a:t>.    Read the tex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Это моя семья. Вот мой отец. А это моя мать. Это мой брат.  И это тоже мой брат. Вот моя сестра. Это мой дедушка. А это моя бабушка. Вот мой дядя. А это моя тётя. А это 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20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867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Скороговорки и поговорки</a:t>
            </a:r>
            <a:br>
              <a:rPr sz="4400"/>
            </a:br>
            <a:r>
              <a:rPr b="0" i="1" lang="en-US" sz="4400" spc="-1" strike="noStrike">
                <a:solidFill>
                  <a:srgbClr val="ffc000"/>
                </a:solidFill>
                <a:latin typeface="Calibri"/>
              </a:rPr>
              <a:t>Tongue twisters and pro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4240" y="214272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Мама мыла Милу мыл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На дворе трава, на траве др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Сделал дело – гуляй сме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Work is done, time for fun</a:t>
            </a:r>
            <a:r>
              <a:rPr b="1" i="1" lang="ru-RU" sz="3200" spc="-1" strike="noStrike">
                <a:solidFill>
                  <a:srgbClr val="00b0f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21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291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ь [кост’],   гость   [гост’]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Bone                        g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home\Desktop\274px-Illu_long_bone.jpg"/>
          <p:cNvPicPr/>
          <p:nvPr/>
        </p:nvPicPr>
        <p:blipFill>
          <a:blip r:embed="rId1"/>
          <a:stretch/>
        </p:blipFill>
        <p:spPr>
          <a:xfrm>
            <a:off x="2928960" y="3000240"/>
            <a:ext cx="1214280" cy="18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home\Desktop\Без названия.jpg"/>
          <p:cNvPicPr/>
          <p:nvPr/>
        </p:nvPicPr>
        <p:blipFill>
          <a:blip r:embed="rId2"/>
          <a:stretch/>
        </p:blipFill>
        <p:spPr>
          <a:xfrm>
            <a:off x="6000840" y="300024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60" name="0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54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и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, н, т, д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гут быть твёрдыми и мягкими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[м] – [м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,    [н] – [н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, [т] – [т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, [д] – [д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und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н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т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 both soft and hard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variant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[m] – [m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,    [n] – [n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, [t] – [t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, [d] – [d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04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79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равните:  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mpare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 [м ]    ма – мо – му – мэ – мы –  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[м’]    мя – мё – мю – ме – ми – а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If we write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Я, Ё, Ю, Е, И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or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after consonants     we have to pronounce them soft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0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7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4000"/>
            </a:b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840" y="1714320"/>
            <a:ext cx="8929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)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а – м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о – мё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у – мю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э – ме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ы – м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м – ам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2)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 – н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о – нё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у – ню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э – не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ы – н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н – ан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3)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та – т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то – тё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ту – тю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тэ – те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ты – т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т – 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а – д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о – дё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у – дю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э – де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ы – 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06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066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2640" y="1571760"/>
            <a:ext cx="7543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нет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-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мать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mot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ость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b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гость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- 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g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текст             - 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ень              - 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0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56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ётя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ядя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едушк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евушк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young gi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есто                 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ясо                   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08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48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нига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омер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етро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etro, underground, sub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ни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ец               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традь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notebook, exercise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09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79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8:04:15Z</dcterms:created>
  <dc:creator>USER</dc:creator>
  <dc:description/>
  <dc:language>en-US</dc:language>
  <cp:lastModifiedBy>Melissan</cp:lastModifiedBy>
  <dcterms:modified xsi:type="dcterms:W3CDTF">2020-10-06T09:02:25Z</dcterms:modified>
  <cp:revision>106</cp:revision>
  <dc:subject/>
  <dc:title>Урок 1</dc:title>
</cp:coreProperties>
</file>