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png" ContentType="image/png"/>
  <Override PartName="/ppt/media/image14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A97E-98A8-4956-8507-1164AA3EDA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AE50-4C04-496E-96D8-F3D5FE99962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1D2-DE82-47C9-BD28-FA5712DF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99FC-9BD7-4F70-94B8-88B0EA6E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FFF9-263F-46B4-9B49-35F05706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4C7-3175-4E72-B5CE-87D87FF8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E515-EE28-4EE3-A3BB-D9ABD2E6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DF06-9579-444D-A932-7E58BB71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2C8-124F-4F42-901B-2F4B1630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7BE7-732B-496E-93F9-C1E79784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2F6-2BD6-4651-8420-56228C33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695-E9BB-40EE-A2DD-D7E0B9B5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88F-4E2D-4F03-BCF5-65BF4E21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205-439C-4FDC-BFCF-1893AC1C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A6F0-B124-46B9-8593-E19D72A9E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Урок 6 (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Lesson </a:t>
            </a:r>
            <a:r>
              <a:rPr b="1" lang="ru-RU" sz="7200" spc="-1" strike="noStrike">
                <a:solidFill>
                  <a:srgbClr val="7030a0"/>
                </a:solidFill>
                <a:latin typeface="Calibri"/>
              </a:rPr>
              <a:t>6</a:t>
            </a:r>
            <a:r>
              <a:rPr b="1" lang="en-US" sz="7200" spc="-1" strike="noStrike">
                <a:solidFill>
                  <a:srgbClr val="7030a0"/>
                </a:solidFill>
                <a:latin typeface="Calibri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68BE-2994-45E1-99E0-8AC2F2DAB50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ÐÐ±ÑÑÐµÐ½Ð¸Ðµ ÑÑÑÑÐºÐ¾Ð¼Ñ ÑÐ·ÑÐºÑ Ð¿Ð¾ ÑÐºÐ°Ð¹Ð¿Ñ | ÐÐ·ÑÑÐ°ÐµÐ¼ ÑÑÑÑÐºÐ¸Ð¹ Ð¾Ð½Ð»Ð°Ð¹Ð½ | Ð£ÑÐ¾ÐºÐ¸ ..."/>
          <p:cNvPicPr/>
          <p:nvPr/>
        </p:nvPicPr>
        <p:blipFill>
          <a:blip r:embed="rId1"/>
          <a:stretch/>
        </p:blipFill>
        <p:spPr>
          <a:xfrm>
            <a:off x="2428920" y="292896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52" name="01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8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5480" y="199980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 – щ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 – щ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о – щ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 – щ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и – 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ш – а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ш – у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ш – ощ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ш – е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ш – и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а – ч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щу – ч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щё – ч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ще – ч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щи – ч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10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5508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50020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щ – а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щ – у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щ – о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щ – е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щ – ич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я – ч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ю – ч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тё – ч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е – ч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и – ч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11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794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168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борщ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beetroot s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вощ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vege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лащ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rainc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лощадь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square (a type of stre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ещь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щека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ch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женщина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wo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служащий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employ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бщежитие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2800" spc="-1" strike="noStrike">
                <a:solidFill>
                  <a:srgbClr val="00b0f0"/>
                </a:solidFill>
                <a:latin typeface="Calibri"/>
              </a:rPr>
              <a:t>host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1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964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кажите, что вы видите на картинках.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Say what you see on the pi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home\Desktop\samii_vkusnii_borsh-404089.jpg"/>
          <p:cNvPicPr/>
          <p:nvPr/>
        </p:nvPicPr>
        <p:blipFill>
          <a:blip r:embed="rId1"/>
          <a:stretch/>
        </p:blipFill>
        <p:spPr>
          <a:xfrm>
            <a:off x="214200" y="1500120"/>
            <a:ext cx="3105360" cy="177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home\Desktop\nnnnoooo890808.jpg"/>
          <p:cNvPicPr/>
          <p:nvPr/>
        </p:nvPicPr>
        <p:blipFill>
          <a:blip r:embed="rId2"/>
          <a:stretch/>
        </p:blipFill>
        <p:spPr>
          <a:xfrm>
            <a:off x="4286160" y="542916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home\Desktop\0152972102_66.jpg"/>
          <p:cNvPicPr/>
          <p:nvPr/>
        </p:nvPicPr>
        <p:blipFill>
          <a:blip r:embed="rId3"/>
          <a:stretch/>
        </p:blipFill>
        <p:spPr>
          <a:xfrm>
            <a:off x="0" y="3571920"/>
            <a:ext cx="1857240" cy="27147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C:\Users\home\Desktop\97479baa59aa659daac6ef7e1cc0ddbb.jpg"/>
          <p:cNvPicPr/>
          <p:nvPr/>
        </p:nvPicPr>
        <p:blipFill>
          <a:blip r:embed="rId4"/>
          <a:stretch/>
        </p:blipFill>
        <p:spPr>
          <a:xfrm>
            <a:off x="3571920" y="1500120"/>
            <a:ext cx="3000240" cy="1785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Users\home\Desktop\Без названия (4).jpg"/>
          <p:cNvPicPr/>
          <p:nvPr/>
        </p:nvPicPr>
        <p:blipFill>
          <a:blip r:embed="rId5"/>
          <a:stretch/>
        </p:blipFill>
        <p:spPr>
          <a:xfrm>
            <a:off x="6929280" y="4572000"/>
            <a:ext cx="2214720" cy="194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Users\home\Desktop\a-happy-businessma200.jpg"/>
          <p:cNvPicPr/>
          <p:nvPr/>
        </p:nvPicPr>
        <p:blipFill>
          <a:blip r:embed="rId6"/>
          <a:stretch/>
        </p:blipFill>
        <p:spPr>
          <a:xfrm>
            <a:off x="1928880" y="3571920"/>
            <a:ext cx="2286000" cy="25002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C:\Users\home\Desktop\1880abb1147b545868cc111312702a3f.jpg"/>
          <p:cNvPicPr/>
          <p:nvPr/>
        </p:nvPicPr>
        <p:blipFill>
          <a:blip r:embed="rId7"/>
          <a:stretch/>
        </p:blipFill>
        <p:spPr>
          <a:xfrm>
            <a:off x="4357800" y="3357720"/>
            <a:ext cx="2714400" cy="1690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Users\home\Desktop\images (2).jpg"/>
          <p:cNvPicPr/>
          <p:nvPr/>
        </p:nvPicPr>
        <p:blipFill>
          <a:blip r:embed="rId8"/>
          <a:stretch/>
        </p:blipFill>
        <p:spPr>
          <a:xfrm>
            <a:off x="6715080" y="1500120"/>
            <a:ext cx="2214720" cy="1790640"/>
          </a:xfrm>
          <a:prstGeom prst="rect">
            <a:avLst/>
          </a:prstGeom>
          <a:ln w="0">
            <a:noFill/>
          </a:ln>
        </p:spPr>
      </p:pic>
      <p:pic>
        <p:nvPicPr>
          <p:cNvPr id="105" name="07" descr=""/>
          <p:cNvPicPr/>
          <p:nvPr/>
        </p:nvPicPr>
        <p:blipFill>
          <a:blip r:embed="rId9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304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288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ночь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очь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daugh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люч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k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чай 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что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што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]    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ечер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ev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учка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14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323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бочий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worker</a:t>
            </a: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чебник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оне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чн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шн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]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sure, of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у</a:t>
            </a:r>
            <a:r>
              <a:rPr b="1" lang="ru-RU" sz="3200" spc="-1" strike="noStrike" u="sng">
                <a:solidFill>
                  <a:srgbClr val="002060"/>
                </a:solidFill>
                <a:uFillTx/>
                <a:latin typeface="Calibri"/>
              </a:rPr>
              <a:t>жч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на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щ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]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человек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person, human b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15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956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кажите, что вы видите на картинках.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Say what you see on the pi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home\Desktop\key.png"/>
          <p:cNvPicPr/>
          <p:nvPr/>
        </p:nvPicPr>
        <p:blipFill>
          <a:blip r:embed="rId1"/>
          <a:stretch/>
        </p:blipFill>
        <p:spPr>
          <a:xfrm>
            <a:off x="0" y="1357200"/>
            <a:ext cx="2071800" cy="1928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Users\home\Desktop\Без названия (5).jpg"/>
          <p:cNvPicPr/>
          <p:nvPr/>
        </p:nvPicPr>
        <p:blipFill>
          <a:blip r:embed="rId2"/>
          <a:stretch/>
        </p:blipFill>
        <p:spPr>
          <a:xfrm>
            <a:off x="2214720" y="1357200"/>
            <a:ext cx="235728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6" descr="C:\Users\home\Desktop\tea-cup-lemon-mint-zpy.jpg"/>
          <p:cNvPicPr/>
          <p:nvPr/>
        </p:nvPicPr>
        <p:blipFill>
          <a:blip r:embed="rId3"/>
          <a:stretch/>
        </p:blipFill>
        <p:spPr>
          <a:xfrm>
            <a:off x="0" y="3643200"/>
            <a:ext cx="2214720" cy="2071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Users\home\Desktop\images (3).jpg"/>
          <p:cNvPicPr/>
          <p:nvPr/>
        </p:nvPicPr>
        <p:blipFill>
          <a:blip r:embed="rId4"/>
          <a:stretch/>
        </p:blipFill>
        <p:spPr>
          <a:xfrm>
            <a:off x="2286000" y="4143240"/>
            <a:ext cx="2581200" cy="2305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Users\home\Desktop\construction-worker-architectural-engineering-cartoon-laborer-building.jpg"/>
          <p:cNvPicPr/>
          <p:nvPr/>
        </p:nvPicPr>
        <p:blipFill>
          <a:blip r:embed="rId5"/>
          <a:stretch/>
        </p:blipFill>
        <p:spPr>
          <a:xfrm>
            <a:off x="7143840" y="1357200"/>
            <a:ext cx="1857240" cy="27860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9" descr="C:\Users\home\Desktop\kartinki24_ru_nature_136.jpg"/>
          <p:cNvPicPr/>
          <p:nvPr/>
        </p:nvPicPr>
        <p:blipFill>
          <a:blip r:embed="rId6"/>
          <a:stretch/>
        </p:blipFill>
        <p:spPr>
          <a:xfrm>
            <a:off x="4786200" y="128592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home\Desktop\asm-0705.jpg"/>
          <p:cNvPicPr/>
          <p:nvPr/>
        </p:nvPicPr>
        <p:blipFill>
          <a:blip r:embed="rId7"/>
          <a:stretch/>
        </p:blipFill>
        <p:spPr>
          <a:xfrm>
            <a:off x="4929120" y="3429000"/>
            <a:ext cx="2000160" cy="2500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1" descr="C:\Users\home\Desktop\depositphotos_3485246-stock-photo-sunset.jpg"/>
          <p:cNvPicPr/>
          <p:nvPr/>
        </p:nvPicPr>
        <p:blipFill>
          <a:blip r:embed="rId8"/>
          <a:stretch/>
        </p:blipFill>
        <p:spPr>
          <a:xfrm>
            <a:off x="6929280" y="4429080"/>
            <a:ext cx="221472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07" descr=""/>
          <p:cNvPicPr/>
          <p:nvPr/>
        </p:nvPicPr>
        <p:blipFill>
          <a:blip r:embed="rId9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304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мните!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лова женского рода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ещь, дочь, ночь, площад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eminine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лово среднего рода: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общежит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euter no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1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634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Твёрдый знак  ъ</a:t>
            </a: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Hard 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Letter «hard sign» doesn’t indicate any sound. It is not pronounced. The previous consonant is always pronounced har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18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864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4400"/>
            </a:br>
            <a:r>
              <a:rPr b="1" i="1" lang="en-US" sz="44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ъекция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en-US" sz="4000" spc="-1" strike="noStrike">
                <a:solidFill>
                  <a:srgbClr val="00b0f0"/>
                </a:solidFill>
                <a:latin typeface="Calibri"/>
              </a:rPr>
              <a:t>Inj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C:\Users\home\Desktop\506_original.jpg"/>
          <p:cNvPicPr/>
          <p:nvPr/>
        </p:nvPicPr>
        <p:blipFill>
          <a:blip r:embed="rId1"/>
          <a:stretch/>
        </p:blipFill>
        <p:spPr>
          <a:xfrm>
            <a:off x="4357800" y="2928960"/>
            <a:ext cx="3547800" cy="2214720"/>
          </a:xfrm>
          <a:prstGeom prst="rect">
            <a:avLst/>
          </a:prstGeom>
          <a:ln w="0">
            <a:noFill/>
          </a:ln>
        </p:spPr>
      </p:pic>
      <p:pic>
        <p:nvPicPr>
          <p:cNvPr id="131" name="19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04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мните!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уки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, б, ф, в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гут быть твёрдыми и мягкими 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[п] – [п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,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[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б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 – [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б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, [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ф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 – [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ф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, [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 – [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в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und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б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ф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 both soft and hard variants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[p] – [p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],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  [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 – [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, [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 – [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, [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v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 – [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v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’</a:t>
            </a: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]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0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5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2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Теперь вы знаете русский алфавит. Читайте и пишите. </a:t>
            </a:r>
            <a:br>
              <a:rPr sz="2400"/>
            </a:br>
            <a:r>
              <a:rPr b="0" i="1" lang="en-US" sz="2400" spc="-1" strike="noStrike">
                <a:solidFill>
                  <a:srgbClr val="0070c0"/>
                </a:solidFill>
                <a:latin typeface="Calibri"/>
              </a:rPr>
              <a:t>Now you know the Russian alphabet. Read and 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C:\Users\home\Desktop\img-x4baXQ.jpg"/>
          <p:cNvPicPr/>
          <p:nvPr/>
        </p:nvPicPr>
        <p:blipFill>
          <a:blip r:embed="rId1"/>
          <a:stretch/>
        </p:blipFill>
        <p:spPr>
          <a:xfrm>
            <a:off x="1643040" y="1143000"/>
            <a:ext cx="5643720" cy="5286240"/>
          </a:xfrm>
          <a:prstGeom prst="rect">
            <a:avLst/>
          </a:prstGeom>
          <a:ln w="0">
            <a:noFill/>
          </a:ln>
        </p:spPr>
      </p:pic>
      <p:pic>
        <p:nvPicPr>
          <p:cNvPr id="134" name="20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57624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ражение отрицания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The</a:t>
            </a: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Use of Neg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9980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Это мой д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Это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 мой 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[ни мой]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д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C:\Users\home\Desktop\a98bd354177f9bc2eeb12361b578b620.jpg"/>
          <p:cNvPicPr/>
          <p:nvPr/>
        </p:nvPicPr>
        <p:blipFill>
          <a:blip r:embed="rId1"/>
          <a:stretch/>
        </p:blipFill>
        <p:spPr>
          <a:xfrm>
            <a:off x="4214880" y="3714840"/>
            <a:ext cx="4314600" cy="1906560"/>
          </a:xfrm>
          <a:prstGeom prst="rect">
            <a:avLst/>
          </a:prstGeom>
          <a:ln w="0">
            <a:noFill/>
          </a:ln>
        </p:spPr>
      </p:pic>
      <p:pic>
        <p:nvPicPr>
          <p:cNvPr id="138" name="21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010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2560" y="2356920"/>
            <a:ext cx="900108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Это не мой плащ. Это не мой друг. Это не мой конвер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Это не моя тетрадь. Это не моя ручка. Это не моя сест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Это не моё письмо.</a:t>
            </a:r>
            <a:r>
              <a:rPr b="0" lang="en-US" sz="2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Это не моё место.</a:t>
            </a:r>
            <a:r>
              <a:rPr b="0" lang="en-US" sz="28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Это не моё мыл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22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1952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ИВЕТСТВИЕ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GREE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4200" y="1785960"/>
            <a:ext cx="8786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Здравствуй!  Здравствуй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е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!  </a:t>
            </a:r>
            <a:r>
              <a:rPr b="0" i="1" lang="ru-RU" sz="3200" spc="-1" strike="noStrike">
                <a:solidFill>
                  <a:srgbClr val="00b0f0"/>
                </a:solidFill>
                <a:latin typeface="Calibri"/>
              </a:rPr>
              <a:t>-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Hell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оброе утро!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- Good morn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обрый день!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- Good afternoon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Добрый вечер!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- Good evening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ивет!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- H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Рисунок 3" descr="blondie_ru-345967"/>
          <p:cNvPicPr/>
          <p:nvPr/>
        </p:nvPicPr>
        <p:blipFill>
          <a:blip r:embed="rId1"/>
          <a:stretch/>
        </p:blipFill>
        <p:spPr>
          <a:xfrm>
            <a:off x="3357720" y="2428920"/>
            <a:ext cx="192852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2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2752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ЩАНИЕ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SAYING GOOD-BY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5840" y="1714320"/>
            <a:ext cx="8400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До свидания!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i="1" lang="ru-RU" sz="3000" spc="-1" strike="noStrike">
                <a:solidFill>
                  <a:srgbClr val="00b0f0"/>
                </a:solidFill>
                <a:latin typeface="Calibri"/>
              </a:rPr>
              <a:t>-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Goodby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До встречи.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b0f0"/>
                </a:solidFill>
                <a:latin typeface="Calibri"/>
              </a:rPr>
              <a:t>                 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- See y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До завтра.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- See you tomorrow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рощай! Прощайте!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- Farewel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Пока!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- By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Всего доброго!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- All the bes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alibri"/>
              </a:rPr>
              <a:t>Всего хорошего!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i="1" lang="en-US" sz="3000" spc="-1" strike="noStrike">
                <a:solidFill>
                  <a:srgbClr val="00b0f0"/>
                </a:solidFill>
                <a:latin typeface="Calibri"/>
              </a:rPr>
              <a:t>- All the bes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3" descr="picture_36985"/>
          <p:cNvPicPr/>
          <p:nvPr/>
        </p:nvPicPr>
        <p:blipFill>
          <a:blip r:embed="rId1"/>
          <a:stretch/>
        </p:blipFill>
        <p:spPr>
          <a:xfrm>
            <a:off x="7000920" y="3286080"/>
            <a:ext cx="1643040" cy="2643120"/>
          </a:xfrm>
          <a:prstGeom prst="rect">
            <a:avLst/>
          </a:prstGeom>
          <a:ln w="0">
            <a:noFill/>
          </a:ln>
        </p:spPr>
      </p:pic>
      <p:pic>
        <p:nvPicPr>
          <p:cNvPr id="149" name="24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30744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- Здравствуй, Нина!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- Добрый день, Виктор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- Здравствуй, Антон!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- Здравству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Привет, Анн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 Привет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4" descr="C:\Users\home\Desktop\unnamed.jpg"/>
          <p:cNvPicPr/>
          <p:nvPr/>
        </p:nvPicPr>
        <p:blipFill>
          <a:blip r:embed="rId1"/>
          <a:stretch/>
        </p:blipFill>
        <p:spPr>
          <a:xfrm>
            <a:off x="3643200" y="2786040"/>
            <a:ext cx="3786480" cy="2214720"/>
          </a:xfrm>
          <a:prstGeom prst="rect">
            <a:avLst/>
          </a:prstGeom>
          <a:ln w="0">
            <a:noFill/>
          </a:ln>
        </p:spPr>
      </p:pic>
      <p:pic>
        <p:nvPicPr>
          <p:cNvPr id="153" name="25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803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8568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- До свидания, Юл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- Пока. До встречи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- Прощайте, друзь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- До встречи! Всего хоро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3" descr="C:\Users\home\Desktop\depositphotos_326488454-stock-photo-two-happy-african-friends-meeting.jpg"/>
          <p:cNvPicPr/>
          <p:nvPr/>
        </p:nvPicPr>
        <p:blipFill>
          <a:blip r:embed="rId1"/>
          <a:stretch/>
        </p:blipFill>
        <p:spPr>
          <a:xfrm>
            <a:off x="4643280" y="1857240"/>
            <a:ext cx="3562560" cy="1791000"/>
          </a:xfrm>
          <a:prstGeom prst="rect">
            <a:avLst/>
          </a:prstGeom>
          <a:ln w="0">
            <a:noFill/>
          </a:ln>
        </p:spPr>
      </p:pic>
      <p:pic>
        <p:nvPicPr>
          <p:cNvPr id="157" name="26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4024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</a:rPr>
              <a:t>Скороговорки</a:t>
            </a:r>
            <a:br>
              <a:rPr sz="4400"/>
            </a:br>
            <a:r>
              <a:rPr b="0" i="1" lang="en-US" sz="4400" spc="-1" strike="noStrike">
                <a:solidFill>
                  <a:srgbClr val="ffc000"/>
                </a:solidFill>
                <a:latin typeface="Calibri"/>
              </a:rPr>
              <a:t>Tongue twi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2142720"/>
            <a:ext cx="85010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Фотограф сделал фот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Мой руки чище и чащ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Говорит попугай попугаю: «Я тебя, попугай, попугаю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27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46752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4000"/>
            </a:br>
            <a:r>
              <a:rPr b="1" i="1" lang="en-US" sz="40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1714320"/>
            <a:ext cx="8929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1)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па – пя , пэ – пе , пы - п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2)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ба – бя,  бэ – бе, бы – б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3)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фо – фё, фэ – фе, фы – ф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4)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о – вё, вэ – ве, вы - в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03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418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142640" y="1571760"/>
            <a:ext cx="75438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бинт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         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-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band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етер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wi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ес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wei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иза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-        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vi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цвет               -        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colo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цветок          -         </a:t>
            </a:r>
            <a:r>
              <a:rPr b="0" i="1" lang="en-US" sz="3600" spc="-1" strike="noStrike">
                <a:solidFill>
                  <a:srgbClr val="00b0f0"/>
                </a:solidFill>
                <a:latin typeface="Calibri"/>
              </a:rPr>
              <a:t>flow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04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18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600"/>
            </a:b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твет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есн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sp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исок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temple (part of h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онверт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исьмо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-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letter (we write for sm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05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95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3569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офессия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prof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рофессор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profes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фотография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phot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ниверситет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-    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06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43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Скажите, что вы видите на картинках.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Say what you see on the pi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golovnaia_bol_v_viskah"/>
          <p:cNvPicPr/>
          <p:nvPr/>
        </p:nvPicPr>
        <p:blipFill>
          <a:blip r:embed="rId1"/>
          <a:stretch/>
        </p:blipFill>
        <p:spPr>
          <a:xfrm>
            <a:off x="214200" y="1214280"/>
            <a:ext cx="1928880" cy="18576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09"/>
          <p:cNvPicPr/>
          <p:nvPr/>
        </p:nvPicPr>
        <p:blipFill>
          <a:blip r:embed="rId2"/>
          <a:stretch/>
        </p:blipFill>
        <p:spPr>
          <a:xfrm>
            <a:off x="2500200" y="1285920"/>
            <a:ext cx="2071800" cy="1500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onf586f53804774e561d057c9bae9bdb06f_800"/>
          <p:cNvPicPr/>
          <p:nvPr/>
        </p:nvPicPr>
        <p:blipFill>
          <a:blip r:embed="rId3"/>
          <a:stretch/>
        </p:blipFill>
        <p:spPr>
          <a:xfrm>
            <a:off x="4643280" y="1357200"/>
            <a:ext cx="2362320" cy="1500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6" descr="0_9696_649537d3_L"/>
          <p:cNvPicPr/>
          <p:nvPr/>
        </p:nvPicPr>
        <p:blipFill>
          <a:blip r:embed="rId4"/>
          <a:stretch/>
        </p:blipFill>
        <p:spPr>
          <a:xfrm>
            <a:off x="7215120" y="107172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7" descr="C:\Users\home\Desktop\rf1vkg1x380921.jpg"/>
          <p:cNvPicPr/>
          <p:nvPr/>
        </p:nvPicPr>
        <p:blipFill>
          <a:blip r:embed="rId5"/>
          <a:stretch/>
        </p:blipFill>
        <p:spPr>
          <a:xfrm>
            <a:off x="2428920" y="2928960"/>
            <a:ext cx="2286000" cy="1400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home\Desktop\w256h256138021415105.png"/>
          <p:cNvPicPr/>
          <p:nvPr/>
        </p:nvPicPr>
        <p:blipFill>
          <a:blip r:embed="rId6"/>
          <a:stretch/>
        </p:blipFill>
        <p:spPr>
          <a:xfrm>
            <a:off x="285840" y="3071880"/>
            <a:ext cx="2152440" cy="1928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9" descr="C:\Users\home\Desktop\124298-glavnyj_korpus_volggmu_volgograd_plocshad_pavshih_borcov_1.jpg"/>
          <p:cNvPicPr/>
          <p:nvPr/>
        </p:nvPicPr>
        <p:blipFill>
          <a:blip r:embed="rId7"/>
          <a:stretch/>
        </p:blipFill>
        <p:spPr>
          <a:xfrm>
            <a:off x="4929120" y="3214800"/>
            <a:ext cx="2828880" cy="185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home\Desktop\depositphotos_178887610-stock-photo-happy-senior-lecturer-open-arms.jpg"/>
          <p:cNvPicPr/>
          <p:nvPr/>
        </p:nvPicPr>
        <p:blipFill>
          <a:blip r:embed="rId8"/>
          <a:stretch/>
        </p:blipFill>
        <p:spPr>
          <a:xfrm>
            <a:off x="2286000" y="450072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C:\Users\home\Desktop\unnamed (1).jpg"/>
          <p:cNvPicPr/>
          <p:nvPr/>
        </p:nvPicPr>
        <p:blipFill>
          <a:blip r:embed="rId9"/>
          <a:stretch/>
        </p:blipFill>
        <p:spPr>
          <a:xfrm>
            <a:off x="5072040" y="5143680"/>
            <a:ext cx="2643120" cy="17143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" descr="C:\Users\home\Desktop\лишний-вес.jpg"/>
          <p:cNvPicPr/>
          <p:nvPr/>
        </p:nvPicPr>
        <p:blipFill>
          <a:blip r:embed="rId10"/>
          <a:stretch/>
        </p:blipFill>
        <p:spPr>
          <a:xfrm>
            <a:off x="0" y="5214960"/>
            <a:ext cx="2000160" cy="1228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3" descr="C:\Users\home\Desktop\216671_1.jpg"/>
          <p:cNvPicPr/>
          <p:nvPr/>
        </p:nvPicPr>
        <p:blipFill>
          <a:blip r:embed="rId11"/>
          <a:stretch/>
        </p:blipFill>
        <p:spPr>
          <a:xfrm>
            <a:off x="7858080" y="3571920"/>
            <a:ext cx="1714680" cy="2643120"/>
          </a:xfrm>
          <a:prstGeom prst="rect">
            <a:avLst/>
          </a:prstGeom>
          <a:ln w="0">
            <a:noFill/>
          </a:ln>
        </p:spPr>
      </p:pic>
      <p:pic>
        <p:nvPicPr>
          <p:cNvPr id="80" name="07" descr=""/>
          <p:cNvPicPr/>
          <p:nvPr/>
        </p:nvPicPr>
        <p:blipFill>
          <a:blip r:embed="rId1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30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гласны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[ch’]         [sh’]  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onso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кв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Ч ч 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Щ щ</a:t>
            </a: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Le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(Всегда мягкие.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y are always soft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08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Слушайте, повторяйте, читайте</a:t>
            </a:r>
            <a:br>
              <a:rPr sz="3200"/>
            </a:b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isten, repeat,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928880"/>
            <a:ext cx="91440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 – чё – чу – че – чи      ач – оч – уч – еч – 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а – щё – щу – ще – щи   ащ – ощ – ущ – ещ – и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09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68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3T08:04:15Z</dcterms:created>
  <dc:creator>USER</dc:creator>
  <dc:description/>
  <dc:language>en-US</dc:language>
  <cp:lastModifiedBy>Melissan</cp:lastModifiedBy>
  <dcterms:modified xsi:type="dcterms:W3CDTF">2020-10-06T09:47:51Z</dcterms:modified>
  <cp:revision>139</cp:revision>
  <dc:subject/>
  <dc:title>Урок 1</dc:title>
</cp:coreProperties>
</file>