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9925-60BF-4355-84D3-9703F96816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0BE8-E40A-4DA6-B78C-7B259390E0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42F-BB37-4826-9B54-8192978E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D33-092C-4EFB-BA8D-27E899FE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693-9E01-4F69-A71E-B1F7C94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83D-6A5F-41E9-8834-969F5C45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B2F-4FED-41FB-96BF-59BF1635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E2E-A30E-4C23-86CB-875E1C1C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58C-8578-4BF7-9465-CF9A87E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2F4-F2A8-4648-B850-21C75645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CCC-ADD2-497B-8AD2-B9B7E2F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BBD-3361-4F60-9C34-25448809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585-E489-4012-8B81-AC48F1E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CC6-DF9B-46FA-BC7D-3CB5C46E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D3B-FA10-4D06-B269-B770BD733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Урок 7 (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Lesson </a:t>
            </a: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25ED-5359-4C18-BB2E-6EB034D9DBC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ÐÐ±ÑÑÐµÐ½Ð¸Ðµ ÑÑÑÑÐºÐ¾Ð¼Ñ ÑÐ·ÑÐºÑ Ð¿Ð¾ ÑÐºÐ°Ð¹Ð¿Ñ | ÐÐ·ÑÑÐ°ÐµÐ¼ ÑÑÑÑÐºÐ¸Ð¹ Ð¾Ð½Ð»Ð°Ð¹Ð½ | Ð£ÑÐ¾ÐºÐ¸ ..."/>
          <p:cNvPicPr/>
          <p:nvPr/>
        </p:nvPicPr>
        <p:blipFill>
          <a:blip r:embed="rId1"/>
          <a:stretch/>
        </p:blipFill>
        <p:spPr>
          <a:xfrm>
            <a:off x="2428920" y="292896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просите друг друга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то это и  что эт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 Ответьте на вопросы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Ask one another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who it is, what it is.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Answer the questions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Ð¢ÐÐ¡Ð¢: ÐÐÐÐÐÐ ÐÐÐ¢Ð¬ÐÐÐÐ Ð¡ ÐÐÐ ÐÐ¢ÐÐÐ Ð¡Ð ÐÐÐÐ Ð¥Ð ÐÐÐÐÐÐ¯ | Ð¡Ð¿ÑÐ¾Ñ ..."/>
          <p:cNvPicPr/>
          <p:nvPr/>
        </p:nvPicPr>
        <p:blipFill>
          <a:blip r:embed="rId1"/>
          <a:stretch/>
        </p:blipFill>
        <p:spPr>
          <a:xfrm>
            <a:off x="4714920" y="1928880"/>
            <a:ext cx="428616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ÐÐ¾ÑÐºÐ° Ð¸Ð»Ð¸ ÑÑÐ½?"/>
          <p:cNvPicPr/>
          <p:nvPr/>
        </p:nvPicPr>
        <p:blipFill>
          <a:blip r:embed="rId2"/>
          <a:stretch/>
        </p:blipFill>
        <p:spPr>
          <a:xfrm>
            <a:off x="214200" y="1928880"/>
            <a:ext cx="4286520" cy="3500280"/>
          </a:xfrm>
          <a:prstGeom prst="rect">
            <a:avLst/>
          </a:prstGeom>
          <a:ln w="0">
            <a:noFill/>
          </a:ln>
        </p:spPr>
      </p:pic>
      <p:pic>
        <p:nvPicPr>
          <p:cNvPr id="92" name="07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35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42840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БРАЩЕНИЕ. ПРИВЛЕЧЕНИЕ ВНИМАНИЯ.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DDRESSING SOMEBODY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GINNING A CONVERSATION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кажи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жалуйста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кажите, пожалуйста, …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      Tell me, p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звини, …                             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Excuse me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…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 (Sor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звините,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звините, скажите, пожалуйста,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ÐÑÑÐ¼Ð¾Ð¹ Ð´Ð¸Ð°Ð»Ð¾Ð³ Ð½Ð° ÑÐ»Ð¸ÑÐ°Ñ Ð³Ð¾ÑÐ¾Ð´Ð°"/>
          <p:cNvPicPr/>
          <p:nvPr/>
        </p:nvPicPr>
        <p:blipFill>
          <a:blip r:embed="rId1"/>
          <a:stretch/>
        </p:blipFill>
        <p:spPr>
          <a:xfrm>
            <a:off x="6858000" y="92880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1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63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7120" y="192888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кажите, пожалуйста, ч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шк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кажи, пожалуйста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мой друг 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C:\Users\home\Desktop\1571385428_2.jpg"/>
          <p:cNvPicPr/>
          <p:nvPr/>
        </p:nvPicPr>
        <p:blipFill>
          <a:blip r:embed="rId1"/>
          <a:stretch/>
        </p:blipFill>
        <p:spPr>
          <a:xfrm>
            <a:off x="5572080" y="2428920"/>
            <a:ext cx="3314880" cy="2066760"/>
          </a:xfrm>
          <a:prstGeom prst="rect">
            <a:avLst/>
          </a:prstGeom>
          <a:ln w="0">
            <a:noFill/>
          </a:ln>
        </p:spPr>
      </p:pic>
      <p:pic>
        <p:nvPicPr>
          <p:cNvPr id="100" name="12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292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5480" y="199980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Извините, скажите, пожалуйста, ч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Это поч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Извини, скажи, пожалуйста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Это моя сосед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C:\Users\home\Desktop\Kulikov_18_.jpg"/>
          <p:cNvPicPr/>
          <p:nvPr/>
        </p:nvPicPr>
        <p:blipFill>
          <a:blip r:embed="rId1"/>
          <a:stretch/>
        </p:blipFill>
        <p:spPr>
          <a:xfrm>
            <a:off x="2928960" y="2643120"/>
            <a:ext cx="3190680" cy="125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home\Desktop\images.jpg"/>
          <p:cNvPicPr/>
          <p:nvPr/>
        </p:nvPicPr>
        <p:blipFill>
          <a:blip r:embed="rId2"/>
          <a:stretch/>
        </p:blipFill>
        <p:spPr>
          <a:xfrm>
            <a:off x="5429160" y="442908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105" name="1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546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оставьте диалоги по фотографиям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ompose dialogues, using the pho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998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ÐÐ½ÑÐµÑÐµÑÐ½Ð¾Ðµ Ð½Ð° Ð¿Ð¾Ð»ÐºÐ°Ñ: ÑÐµÐ¼Ð½ÑÐ¹ ÑÐ¾ÐºÐ¾Ð»Ð°Ð´ Millennium Favorite â Zira.uz"/>
          <p:cNvPicPr/>
          <p:nvPr/>
        </p:nvPicPr>
        <p:blipFill>
          <a:blip r:embed="rId1"/>
          <a:stretch/>
        </p:blipFill>
        <p:spPr>
          <a:xfrm>
            <a:off x="285840" y="2176560"/>
            <a:ext cx="4214880" cy="34671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á Ð¡Ð¾ÑÐµÐ´Ð¸ Ð¿Ð¾ ÐºÐ¾Ð¼Ð½Ð°ÑÐµ: ÐºÐ°ÑÑÐ¸Ð½ÐºÐ¸ Ð¸ ÑÐ¾ÑÐ¾ ÑÐ¾ÑÐµÐ´Ð¸ Ð¿Ð¾ ÐºÐ¾Ð¼Ð½Ð°ÑÐµ, ÑÐºÐ°ÑÐ°ÑÑ ..."/>
          <p:cNvPicPr/>
          <p:nvPr/>
        </p:nvPicPr>
        <p:blipFill>
          <a:blip r:embed="rId2"/>
          <a:stretch/>
        </p:blipFill>
        <p:spPr>
          <a:xfrm>
            <a:off x="4643280" y="2252520"/>
            <a:ext cx="4286520" cy="3319560"/>
          </a:xfrm>
          <a:prstGeom prst="rect">
            <a:avLst/>
          </a:prstGeom>
          <a:ln w="0">
            <a:noFill/>
          </a:ln>
        </p:spPr>
      </p:pic>
      <p:pic>
        <p:nvPicPr>
          <p:cNvPr id="110" name="14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16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оставьте диалоги по фотографиям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ompose dialogues, using the pho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Ð¯ÑÐºÐ¸Ðµ, ÐºÑÐµÐ°ÑÐ¸Ð²Ð½ÑÐµ Ð±Ð°Ð±ÑÑÐºÐ¸ ÐÐ¸Ð°ÑÑÐ° Ð¿Ð¾Ð±Ð¾ÑÑÑÑÑ Ð·Ð° Ð·Ð²Ð°Ð½Ð¸Ðµ Ð»ÑÑÑÐµÐ¹ ..."/>
          <p:cNvPicPr/>
          <p:nvPr/>
        </p:nvPicPr>
        <p:blipFill>
          <a:blip r:embed="rId1"/>
          <a:stretch/>
        </p:blipFill>
        <p:spPr>
          <a:xfrm>
            <a:off x="714240" y="2071800"/>
            <a:ext cx="4572000" cy="3357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Ð¢Ð°Ð±Ð»Ð¸ÑÐºÐ¸ Ð½Ð° Ð´Ð¾Ð¼ Ð² ÑÑÐ¸Ð»Ðµ ÑÐµÑÑÐ¾ Ñ Ð¿Ð¾Ð´ÑÐ²ÐµÑÐºÐ¾Ð¹ | ÐÐ¾ ÑÐµÐ°Ð»ÑÐ½Ð¾Ð¹ ÑÐµÐ½Ðµ Ð¾Ñ ..."/>
          <p:cNvPicPr/>
          <p:nvPr/>
        </p:nvPicPr>
        <p:blipFill>
          <a:blip r:embed="rId2"/>
          <a:stretch/>
        </p:blipFill>
        <p:spPr>
          <a:xfrm>
            <a:off x="5072040" y="2000160"/>
            <a:ext cx="3571920" cy="3286080"/>
          </a:xfrm>
          <a:prstGeom prst="rect">
            <a:avLst/>
          </a:prstGeom>
          <a:ln w="0">
            <a:noFill/>
          </a:ln>
        </p:spPr>
      </p:pic>
      <p:pic>
        <p:nvPicPr>
          <p:cNvPr id="114" name="14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16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оставьте диалоги по фотографиям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ompose dialogues, using the pho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5" descr="Ð ÑÑÐ¼ Ð¿Ð¾Ð¹ÑÐ¸ Ð² ÐºÐ»ÑÐ±? | SM.News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ÐÐ¾ÐºÑÐ¾Ñ Ð¥Ð°ÑÑ"/>
          <p:cNvPicPr/>
          <p:nvPr/>
        </p:nvPicPr>
        <p:blipFill>
          <a:blip r:embed="rId2"/>
          <a:stretch/>
        </p:blipFill>
        <p:spPr>
          <a:xfrm>
            <a:off x="4357800" y="164304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14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16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оставьте диалоги по фотографиям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ompose dialogues, using the pho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ÐÐ¸ÐµÐ² Ð¿Ð»Ð°Ð½Ð¸ÑÑÐµÑ Ð¿ÑÐ¸Ð¾Ð±ÑÐµÑÑÐ¸ 50 Ð²Ð°Ð³Ð¾Ð½Ð¾Ð² Ð¼ÐµÑÑÐ¾ Ð¸ 40 ÑÑÐ°Ð¼Ð²Ð°Ð¹Ð½ÑÑ Ð²Ð°Ð³Ð¾Ð½Ð¾Ð² ..."/>
          <p:cNvPicPr/>
          <p:nvPr/>
        </p:nvPicPr>
        <p:blipFill>
          <a:blip r:embed="rId1"/>
          <a:stretch/>
        </p:blipFill>
        <p:spPr>
          <a:xfrm>
            <a:off x="0" y="1671480"/>
            <a:ext cx="4643280" cy="3329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ÐÑÐ°ÑÐ½Ð°Ñ Ð¿Ð»Ð¾ÑÐ°Ð´Ñ. ÐÐ¿Ð¸ÑÐ°Ð½Ð¸Ðµ, ÑÐ¾ÑÐ¾ Ð¸ Ð²Ð¸Ð´ÐµÐ¾, Ð¾ÑÐµÐ½ÐºÐ¸ Ð¸ Ð¾ÑÐ·ÑÐ²Ñ ÑÑÑÐ¸ÑÑÐ¾Ð² ..."/>
          <p:cNvPicPr/>
          <p:nvPr/>
        </p:nvPicPr>
        <p:blipFill>
          <a:blip r:embed="rId2"/>
          <a:stretch/>
        </p:blipFill>
        <p:spPr>
          <a:xfrm>
            <a:off x="4857840" y="164304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122" name="14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16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Поговорки</a:t>
            </a:r>
            <a:br>
              <a:rPr sz="4400"/>
            </a:br>
            <a:r>
              <a:rPr b="0" i="1" lang="en-US" sz="4400" spc="-1" strike="noStrike">
                <a:solidFill>
                  <a:srgbClr val="ffc000"/>
                </a:solidFill>
                <a:latin typeface="Calibri"/>
              </a:rPr>
              <a:t>Pro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2142720"/>
            <a:ext cx="85010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здоровом теле – здоровый ду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Здоровье не купиш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Здоровье – это богатст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In a sound body a sound m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  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You will not buy heal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  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Health is weal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18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30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6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928800"/>
            <a:ext cx="404028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К УЗНАТЬ, К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</a:rPr>
              <a:t>How to know who is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1928880"/>
            <a:ext cx="428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Кто это</a:t>
            </a: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?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Who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Это Макс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857160"/>
            <a:ext cx="404172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К УЗНАТЬ, Ч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</a:rPr>
              <a:t>How to know what is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5080" y="1928520"/>
            <a:ext cx="4284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215968"/>
                </a:solidFill>
                <a:latin typeface="Calibri"/>
              </a:rPr>
              <a:t>Что это</a:t>
            </a: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?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215968"/>
                </a:solidFill>
                <a:latin typeface="Calibri"/>
              </a:rPr>
              <a:t>Это банк</a:t>
            </a: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C:\Users\home\Desktop\depositphotos_205824906-stock-photo-handsome-man-white-shirt-looking.jpg"/>
          <p:cNvPicPr/>
          <p:nvPr/>
        </p:nvPicPr>
        <p:blipFill>
          <a:blip r:embed="rId1"/>
          <a:stretch/>
        </p:blipFill>
        <p:spPr>
          <a:xfrm>
            <a:off x="500040" y="3214800"/>
            <a:ext cx="371484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C:\Users\home\Desktop\Moscow_RussiaCentralBank_M00.jpg"/>
          <p:cNvPicPr/>
          <p:nvPr/>
        </p:nvPicPr>
        <p:blipFill>
          <a:blip r:embed="rId2"/>
          <a:stretch/>
        </p:blipFill>
        <p:spPr>
          <a:xfrm>
            <a:off x="4929120" y="3071880"/>
            <a:ext cx="3657600" cy="2276280"/>
          </a:xfrm>
          <a:prstGeom prst="rect">
            <a:avLst/>
          </a:prstGeom>
          <a:ln w="0">
            <a:noFill/>
          </a:ln>
        </p:spPr>
      </p:pic>
      <p:pic>
        <p:nvPicPr>
          <p:cNvPr id="60" name="02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99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КТО ЭТО?                 Ч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1571760"/>
            <a:ext cx="8358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нтонация вопросительного предло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К – 2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ntonation of an interrogativ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IC –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0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95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285560"/>
            <a:ext cx="4357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рач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doc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то 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медсестр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n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57440" y="1214280"/>
            <a:ext cx="4786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больница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hospi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таша, ч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Это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алата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wa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physician_pen"/>
          <p:cNvPicPr/>
          <p:nvPr/>
        </p:nvPicPr>
        <p:blipFill>
          <a:blip r:embed="rId1"/>
          <a:stretch/>
        </p:blipFill>
        <p:spPr>
          <a:xfrm>
            <a:off x="642960" y="3929040"/>
            <a:ext cx="12571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roddom_nv_07"/>
          <p:cNvPicPr/>
          <p:nvPr/>
        </p:nvPicPr>
        <p:blipFill>
          <a:blip r:embed="rId2"/>
          <a:stretch/>
        </p:blipFill>
        <p:spPr>
          <a:xfrm>
            <a:off x="5429160" y="4000680"/>
            <a:ext cx="2362320" cy="1657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C:\Users\home\Desktop\8824329eefc8af2f2cb0e43afdf01653.jpg"/>
          <p:cNvPicPr/>
          <p:nvPr/>
        </p:nvPicPr>
        <p:blipFill>
          <a:blip r:embed="rId3"/>
          <a:stretch/>
        </p:blipFill>
        <p:spPr>
          <a:xfrm>
            <a:off x="2214720" y="3929040"/>
            <a:ext cx="1928520" cy="1643040"/>
          </a:xfrm>
          <a:prstGeom prst="rect">
            <a:avLst/>
          </a:prstGeom>
          <a:ln w="0">
            <a:noFill/>
          </a:ln>
        </p:spPr>
      </p:pic>
      <p:pic>
        <p:nvPicPr>
          <p:cNvPr id="70" name="04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02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28800" y="2071800"/>
            <a:ext cx="7758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то это? – Это мой дру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то это? – Это университ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то это? – Это студен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то это? – Это </a:t>
            </a: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кафедр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depart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то это? – Это профессо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0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427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569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то это? – Это учебник русского язы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              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Russian language textbo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то это? – Это мой б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то это? – Это до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то это? – Это 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тел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(b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06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52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1214280"/>
            <a:ext cx="8472600" cy="2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просите друг друга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то это и  что эт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 Ответьте на вопросы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Ask one another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who it is, what it is.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Answer the questions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ÐÐ°ÑÑÐ¸Ð½ÐºÐ¸ ÐºÑÐ°ÑÐ¸Ð²Ð¾Ð¹ ÐµÐ´Ñ (35 ÑÐ¾ÑÐ¾) ð¥ ÐÑÐ¸ÐºÐ¾Ð»ÑÐ½ÑÐµ ÐºÐ°ÑÑÐ¸Ð½ÐºÐ¸ Ð¸ ÑÐ¼Ð¾Ñ"/>
          <p:cNvPicPr/>
          <p:nvPr/>
        </p:nvPicPr>
        <p:blipFill>
          <a:blip r:embed="rId1"/>
          <a:stretch/>
        </p:blipFill>
        <p:spPr>
          <a:xfrm>
            <a:off x="214200" y="1571760"/>
            <a:ext cx="4572000" cy="371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ÐÐ°Ð»ÐµÑÐµÑ ÐºÑÐ°ÑÐ¸Ð²ÑÑ Ð´ÐµÐ²ÑÑÐµÐº 346 ÑÐ¾ÑÐ¾ | ÐÑÐ°ÑÐ¸Ð²ÑÐµ Ð»Ð¸ÑÐ°, ÐÑÐ°ÑÐ¾ÑÐ° Ð´ÐµÐ²ÑÑÐµÐº ..."/>
          <p:cNvPicPr/>
          <p:nvPr/>
        </p:nvPicPr>
        <p:blipFill>
          <a:blip r:embed="rId2"/>
          <a:stretch/>
        </p:blipFill>
        <p:spPr>
          <a:xfrm>
            <a:off x="5429160" y="157176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80" name="07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352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просите друг друга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то это и  что эт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 Ответьте на вопросы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Ask one another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who it is, what it is.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Answer the questions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Ð§ÐµÐ»Ð¾Ð²ÐµÐº Ð² Ð¶ÐµÐ»ÑÐ¾Ð¹ ÐºÐ°ÑÐºÐµ, Ð¡ÐºÐ»Ð°Ð´ÑÐºÐ¾Ð¹ ÑÐ°Ð±Ð¾ÑÐ¸Ð¹ ÐÐ½Ð²ÐµÐ½ÑÐ°ÑÐ¸Ð·Ð°ÑÐ¸Ñ Forklift ..."/>
          <p:cNvPicPr/>
          <p:nvPr/>
        </p:nvPicPr>
        <p:blipFill>
          <a:blip r:embed="rId1"/>
          <a:stretch/>
        </p:blipFill>
        <p:spPr>
          <a:xfrm>
            <a:off x="4572000" y="2000160"/>
            <a:ext cx="3429000" cy="385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ÐÐ°ÑÑÐ¸Ð½ÐºÐ° ÑÐ¾Ð·Ð° Ð² png Ð½Ð° Ð¿ÑÐ¾Ð·ÑÐ°ÑÐ½Ð¾Ð¼ ÑÐ¾Ð½Ðµ"/>
          <p:cNvPicPr/>
          <p:nvPr/>
        </p:nvPicPr>
        <p:blipFill>
          <a:blip r:embed="rId2"/>
          <a:stretch/>
        </p:blipFill>
        <p:spPr>
          <a:xfrm>
            <a:off x="714240" y="1928880"/>
            <a:ext cx="3714840" cy="4000320"/>
          </a:xfrm>
          <a:prstGeom prst="rect">
            <a:avLst/>
          </a:prstGeom>
          <a:ln w="0">
            <a:noFill/>
          </a:ln>
        </p:spPr>
      </p:pic>
      <p:pic>
        <p:nvPicPr>
          <p:cNvPr id="84" name="07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35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6439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просите друг друга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то это и  что эт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 Ответьте на вопросы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   Ask one another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who it is, what it is.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Answer the questions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ÐÐ¾Ð³ÑÑ Ð»Ð¸ ÑÐ¾Ð±Ð°ÐºÐ° Ð¸ ÐºÐ¾ÑÐºÐ° ÑÑÐ°ÑÑ Ð´ÑÑÐ·ÑÑÐ¼Ð¸? Ð¡Ð¾Ð±Ð°ÐºÐ°, ÐÐ¾Ñ, ÐÐ¸Ð²Ð¾ÑÐ½ÑÐµ, ÐÑÑÐ¶Ð±Ð°, ÐÐ»Ð¸Ð½Ð½Ð¾Ð¿Ð¾ÑÑ"/>
          <p:cNvPicPr/>
          <p:nvPr/>
        </p:nvPicPr>
        <p:blipFill>
          <a:blip r:embed="rId1"/>
          <a:stretch/>
        </p:blipFill>
        <p:spPr>
          <a:xfrm>
            <a:off x="142920" y="2571840"/>
            <a:ext cx="485784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Ð¢Ð°ÐºÑÐ¸ &quot;ÐÐ¸ÐºÑÐ¾ÑÐ¸Ñ&quot; ÐÐ½Ð°Ð¿Ð° Ð¼ÐµÐ¶Ð³Ð¾ÑÐ¾Ð´"/>
          <p:cNvPicPr/>
          <p:nvPr/>
        </p:nvPicPr>
        <p:blipFill>
          <a:blip r:embed="rId2"/>
          <a:stretch/>
        </p:blipFill>
        <p:spPr>
          <a:xfrm>
            <a:off x="5286240" y="2571840"/>
            <a:ext cx="3500640" cy="2786040"/>
          </a:xfrm>
          <a:prstGeom prst="rect">
            <a:avLst/>
          </a:prstGeom>
          <a:ln w="0">
            <a:noFill/>
          </a:ln>
        </p:spPr>
      </p:pic>
      <p:pic>
        <p:nvPicPr>
          <p:cNvPr id="88" name="07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35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8:04:15Z</dcterms:created>
  <dc:creator>USER</dc:creator>
  <dc:description/>
  <dc:language>en-US</dc:language>
  <cp:lastModifiedBy>Melissan</cp:lastModifiedBy>
  <dcterms:modified xsi:type="dcterms:W3CDTF">2020-10-06T11:15:41Z</dcterms:modified>
  <cp:revision>153</cp:revision>
  <dc:subject/>
  <dc:title>Урок 1</dc:title>
</cp:coreProperties>
</file>