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88C9-9884-4889-B08D-D86F1668DC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191F-87DE-4DF9-B707-75C0350C67D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084-3576-4F12-8627-97ECC48A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475-72F9-44E0-A6A8-DC7693BE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0C7-7E4D-4EB8-9071-65BD68ED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18E-6F1C-4D75-983A-2EF1DEE2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133-F9F9-442F-8129-B4920FFA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8B6-38E7-42B1-A436-F17D77C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4A6-F727-41AA-BD69-D1C23A45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2EA-1D43-4838-A981-DE55BC5F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065-9867-4EDA-8CD6-7302133E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6DE-E8E5-4181-A750-E3CC0EF0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C2C-24C5-49BB-B24A-B21B095A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A49-3BE8-43DB-A653-604CFBD9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0F87-AFF6-439A-8E5E-E52ECA47C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Урок 8 (</a:t>
            </a: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Lesson </a:t>
            </a: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F01E-438A-4819-8C18-0A82EF71FAE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ÐÐ±ÑÑÐµÐ½Ð¸Ðµ ÑÑÑÑÐºÐ¾Ð¼Ñ ÑÐ·ÑÐºÑ Ð¿Ð¾ ÑÐºÐ°Ð¹Ð¿Ñ | ÐÐ·ÑÑÐ°ÐµÐ¼ ÑÑÑÑÐºÐ¸Ð¹ Ð¾Ð½Ð»Ð°Ð¹Ð½ | Ð£ÑÐ¾ÐºÐ¸ ..."/>
          <p:cNvPicPr/>
          <p:nvPr/>
        </p:nvPicPr>
        <p:blipFill>
          <a:blip r:embed="rId1"/>
          <a:stretch/>
        </p:blipFill>
        <p:spPr>
          <a:xfrm>
            <a:off x="2428920" y="292896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01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5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9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200" y="121428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тонация вопросительного предложения без            вопросительного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лова. ИК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-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e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ntonation of an interrogative sentence without an interrogative word.  IC –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ы терапевт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?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Вы терапев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а, я терапевт.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ет. Я не терапевт, я хирур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0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467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3840" y="142884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аксим, вы актёр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Нет, я не актёр, я спортсме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Скажите, пожалуйста, вы хирург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Нет, я не хирург, я 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окулист</a:t>
            </a:r>
            <a:r>
              <a:rPr b="0" i="1" lang="ru-RU" sz="2800" spc="-1" strike="noStrike">
                <a:solidFill>
                  <a:srgbClr val="632523"/>
                </a:solidFill>
                <a:latin typeface="Calibri"/>
              </a:rPr>
              <a:t>.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  (oculi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нтон Иванович, скажите, пожалуйста, вы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ардиолог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–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а, я кардиолог.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cardiologi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C:\Users\home\Desktop\5ac641f596f26717965779.jpg"/>
          <p:cNvPicPr/>
          <p:nvPr/>
        </p:nvPicPr>
        <p:blipFill>
          <a:blip r:embed="rId1"/>
          <a:stretch/>
        </p:blipFill>
        <p:spPr>
          <a:xfrm>
            <a:off x="6072120" y="1857240"/>
            <a:ext cx="2928960" cy="1976400"/>
          </a:xfrm>
          <a:prstGeom prst="rect">
            <a:avLst/>
          </a:prstGeom>
          <a:ln w="0">
            <a:noFill/>
          </a:ln>
        </p:spPr>
      </p:pic>
      <p:pic>
        <p:nvPicPr>
          <p:cNvPr id="110" name="11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492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Читайте микротексты. Пишите.    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Read the mini texts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Write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4200" y="1857240"/>
            <a:ext cx="87868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Сергей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Он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уже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врач.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alrea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Анна. Она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щё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студентка.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y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Ольга Петровна. Она домохозяй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Иван Петрович. Он уже пенсион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ина Ивановна окулист, а Максим Петрович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ирур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12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523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НАКОМСТВО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ЕДСТАВЛЕНИЕ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TING ACQUAINTED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        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INTRODUCING SOMEBO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2285640"/>
            <a:ext cx="93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</a:rPr>
              <a:t>Как вас зовут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? 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                 </a:t>
            </a:r>
            <a:r>
              <a:rPr b="0" lang="ru-RU" sz="3000" spc="-1" strike="noStrike">
                <a:solidFill>
                  <a:srgbClr val="632523"/>
                </a:solidFill>
                <a:latin typeface="Calibri"/>
              </a:rPr>
              <a:t>– Познакомьтесь, пожалуйста.</a:t>
            </a:r>
            <a:r>
              <a:rPr b="0" lang="en-US" sz="30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What’s your name?</a:t>
            </a:r>
            <a:r>
              <a:rPr b="0" i="1" lang="ru-RU" sz="30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          </a:t>
            </a:r>
            <a:r>
              <a:rPr b="0" lang="ru-RU" sz="3000" spc="-1" strike="noStrike">
                <a:solidFill>
                  <a:srgbClr val="632523"/>
                </a:solidFill>
                <a:latin typeface="Calibri"/>
              </a:rPr>
              <a:t>Это Нина, а это Том.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</a:rPr>
              <a:t>Меня зовут Ольга. 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         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Please, meet … This is N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My name is </a:t>
            </a:r>
            <a:r>
              <a:rPr b="0" i="1" lang="ru-RU" sz="3000" spc="-1" strike="noStrike">
                <a:solidFill>
                  <a:srgbClr val="00b0f0"/>
                </a:solidFill>
                <a:latin typeface="Calibri"/>
              </a:rPr>
              <a:t>О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lga</a:t>
            </a:r>
            <a:r>
              <a:rPr b="0" i="1" lang="ru-RU" sz="3000" spc="-1" strike="noStrike">
                <a:solidFill>
                  <a:srgbClr val="00b0f0"/>
                </a:solidFill>
                <a:latin typeface="Calibri"/>
              </a:rPr>
              <a:t>.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       and this is To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C:\Users\home\Desktop\620x415_1_490a79731d57e518ad1fb19883e1534e@800x535_0x59f91261_17960493051386235844.jpeg"/>
          <p:cNvPicPr/>
          <p:nvPr/>
        </p:nvPicPr>
        <p:blipFill>
          <a:blip r:embed="rId1"/>
          <a:stretch/>
        </p:blipFill>
        <p:spPr>
          <a:xfrm>
            <a:off x="4929120" y="4429080"/>
            <a:ext cx="3238560" cy="1976400"/>
          </a:xfrm>
          <a:prstGeom prst="rect">
            <a:avLst/>
          </a:prstGeom>
          <a:ln w="0">
            <a:noFill/>
          </a:ln>
        </p:spPr>
      </p:pic>
      <p:pic>
        <p:nvPicPr>
          <p:cNvPr id="117" name="1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22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920" y="1714680"/>
            <a:ext cx="92152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- Как вас зовут?                       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Познакомьтесь, пожалуйс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- Меня зовут Катя.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Это Ольга, а это Волод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ак тебя зовут?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знакомься. Это мой дру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еня зовут Юля.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ихаил.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Очень приятно. </a:t>
            </a:r>
            <a:r>
              <a:rPr b="0" i="1" lang="ru-RU" sz="24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b0f0"/>
                </a:solidFill>
                <a:latin typeface="Calibri"/>
              </a:rPr>
              <a:t>Nice to meet you</a:t>
            </a:r>
            <a:r>
              <a:rPr b="0" i="1" lang="ru-RU" sz="2400" spc="-1" strike="noStrike">
                <a:solidFill>
                  <a:srgbClr val="00b0f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А меня зовут Оле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Users\home\Desktop\unnamed (1).jpg"/>
          <p:cNvPicPr/>
          <p:nvPr/>
        </p:nvPicPr>
        <p:blipFill>
          <a:blip r:embed="rId1"/>
          <a:stretch/>
        </p:blipFill>
        <p:spPr>
          <a:xfrm>
            <a:off x="5572080" y="4214880"/>
            <a:ext cx="3000600" cy="1442880"/>
          </a:xfrm>
          <a:prstGeom prst="rect">
            <a:avLst/>
          </a:prstGeom>
          <a:ln w="0">
            <a:noFill/>
          </a:ln>
        </p:spPr>
      </p:pic>
      <p:pic>
        <p:nvPicPr>
          <p:cNvPr id="121" name="14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130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285920"/>
            <a:ext cx="86868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братите внимание на образование местоимений. 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e the formation of the pronouns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480" y="1142640"/>
            <a:ext cx="9286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меня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(My name is…)</a:t>
            </a:r>
            <a:r>
              <a:rPr b="1" i="1" lang="en-US" sz="2600" spc="-1" strike="noStrike">
                <a:solidFill>
                  <a:srgbClr val="00b0f0"/>
                </a:solidFill>
                <a:latin typeface="Calibri"/>
              </a:rPr>
              <a:t>        </a:t>
            </a:r>
            <a:r>
              <a:rPr b="1" i="1" lang="en-US" sz="26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i="1" lang="en-US" sz="2600" spc="-1" strike="noStrike">
                <a:solidFill>
                  <a:srgbClr val="00b0f0"/>
                </a:solidFill>
                <a:latin typeface="Calibri"/>
              </a:rPr>
              <a:t>  </a:t>
            </a:r>
            <a:r>
              <a:rPr b="1" i="1" lang="en-US" sz="26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ль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т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- 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тебя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(Your name is…)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ихаи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В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Вас </a:t>
            </a: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(Your name is…)          </a:t>
            </a: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  </a:t>
            </a: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на Иванов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в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- 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вас</a:t>
            </a: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(Your names are…) </a:t>
            </a:r>
            <a:r>
              <a:rPr b="1" i="1" lang="en-US" sz="26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овут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лег и Наталь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он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- 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его</a:t>
            </a: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(His name is…)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рг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о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- 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её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(Her name is…)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т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он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- 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их</a:t>
            </a: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    </a:t>
            </a: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(Their names are…)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ьга Петровн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м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-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с</a:t>
            </a: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   (Our names are…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ёт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15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626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9680" y="1857240"/>
            <a:ext cx="86439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ак Вас зову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еня зовут Наталья  Иванов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Как тебя зовут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Меня зовут Викто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чень приятно. А меня зовут Кат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C:\Users\home\Desktop\Без названия.jpg"/>
          <p:cNvPicPr/>
          <p:nvPr/>
        </p:nvPicPr>
        <p:blipFill>
          <a:blip r:embed="rId1"/>
          <a:stretch/>
        </p:blipFill>
        <p:spPr>
          <a:xfrm>
            <a:off x="5643720" y="2143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128" name="16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546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3840" y="2214360"/>
            <a:ext cx="8472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кажи, пожалуйста, как его зову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Его зовут Миха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Как их зову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Их зовут Настя и Ю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C:\Users\home\Desktop\depositphotos_37976871-stock-photo-two-girlfriends-lying-down-on.jpg"/>
          <p:cNvPicPr/>
          <p:nvPr/>
        </p:nvPicPr>
        <p:blipFill>
          <a:blip r:embed="rId1"/>
          <a:stretch/>
        </p:blipFill>
        <p:spPr>
          <a:xfrm>
            <a:off x="5572080" y="3143160"/>
            <a:ext cx="3000600" cy="1833480"/>
          </a:xfrm>
          <a:prstGeom prst="rect">
            <a:avLst/>
          </a:prstGeom>
          <a:ln w="0">
            <a:noFill/>
          </a:ln>
        </p:spPr>
      </p:pic>
      <p:pic>
        <p:nvPicPr>
          <p:cNvPr id="132" name="17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323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2147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ак её зову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аш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Как тебя зовут?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Меня зовут Юрий. Можно просто Ю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:\Users\home\Desktop\depositphotos_203623824-stock-photo-handsome-young-guy-casual-denim.jpg"/>
          <p:cNvPicPr/>
          <p:nvPr/>
        </p:nvPicPr>
        <p:blipFill>
          <a:blip r:embed="rId1"/>
          <a:stretch/>
        </p:blipFill>
        <p:spPr>
          <a:xfrm>
            <a:off x="6215040" y="1928880"/>
            <a:ext cx="2214720" cy="2571840"/>
          </a:xfrm>
          <a:prstGeom prst="rect">
            <a:avLst/>
          </a:prstGeom>
          <a:ln w="0">
            <a:noFill/>
          </a:ln>
        </p:spPr>
      </p:pic>
      <p:pic>
        <p:nvPicPr>
          <p:cNvPr id="136" name="18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9224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48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тонация неполного вопросительного предложения с союзом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.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 ИК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-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e Intonation of an interrogative sentences with the conjunction 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IC – 4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Давайте  познакомимся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Меня зовут Ирина Ивановна. А как вас зовут? </a:t>
            </a:r>
            <a:r>
              <a:rPr b="0" i="1" lang="en-US" sz="2400" spc="-1" strike="noStrike">
                <a:solidFill>
                  <a:srgbClr val="00b0f0"/>
                </a:solidFill>
                <a:latin typeface="Calibri"/>
              </a:rPr>
              <a:t>(Let's get acquain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Меня зовут Мухамм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9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196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ОЦИАЛЬНЫЙ СТАТУС ЧЕЛОВЕКА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A PERSON’S SOCIAL STATUS.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KING ABOUT A PERSON’S PROFESSION, TRADE OR OCCUP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499760"/>
            <a:ext cx="9358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то это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–  Кто это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мой друг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 Это моя мать.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А кто он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?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And what is he?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)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А кто она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?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And what is she?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Он студент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He is a student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)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– Она врач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She is a doctor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29215328"/>
          <p:cNvPicPr/>
          <p:nvPr/>
        </p:nvPicPr>
        <p:blipFill>
          <a:blip r:embed="rId1"/>
          <a:stretch/>
        </p:blipFill>
        <p:spPr>
          <a:xfrm>
            <a:off x="1357200" y="3500280"/>
            <a:ext cx="2214720" cy="1643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docinward"/>
          <p:cNvPicPr/>
          <p:nvPr/>
        </p:nvPicPr>
        <p:blipFill>
          <a:blip r:embed="rId2"/>
          <a:stretch/>
        </p:blipFill>
        <p:spPr>
          <a:xfrm>
            <a:off x="5572080" y="3500280"/>
            <a:ext cx="1962360" cy="1643400"/>
          </a:xfrm>
          <a:prstGeom prst="rect">
            <a:avLst/>
          </a:prstGeom>
          <a:ln w="0">
            <a:noFill/>
          </a:ln>
        </p:spPr>
      </p:pic>
      <p:pic>
        <p:nvPicPr>
          <p:cNvPr id="57" name="02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84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Читайте текст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</a:rPr>
              <a:t>.   Read the tex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143160" y="1395360"/>
          <a:ext cx="6000840" cy="3929040"/>
        </p:xfrm>
        <a:graphic>
          <a:graphicData uri="http://schemas.openxmlformats.org/drawingml/2006/table">
            <a:tbl>
              <a:tblPr/>
              <a:tblGrid>
                <a:gridCol w="6000840"/>
              </a:tblGrid>
              <a:tr h="39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моя семья. Это мой отец. Его зовут Михаил Петрович. Он служащий. А это моя   мама. Её зовут Анна Ивановна. Она врач. Это моя сестра. Её зовут Тамара. Она студентка. А это мой брат. Его зовут Виктор. Он тоже студент. Это мой дедушка. Его зовут Пётр Васильевич.  Он пенсионер. Вот моя бабушка. Её зовут Наталья Степановна. Она домохозяйка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Рисунок 4" descr="bigstock_Thanksgiving_Day_6556289"/>
          <p:cNvPicPr/>
          <p:nvPr/>
        </p:nvPicPr>
        <p:blipFill>
          <a:blip r:embed="rId1"/>
          <a:stretch/>
        </p:blipFill>
        <p:spPr>
          <a:xfrm>
            <a:off x="0" y="2071800"/>
            <a:ext cx="3071880" cy="2419200"/>
          </a:xfrm>
          <a:prstGeom prst="rect">
            <a:avLst/>
          </a:prstGeom>
          <a:ln w="0">
            <a:noFill/>
          </a:ln>
        </p:spPr>
      </p:pic>
      <p:pic>
        <p:nvPicPr>
          <p:cNvPr id="144" name="20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3152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4000"/>
            </a:b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1714320"/>
            <a:ext cx="89298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Мужской род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Женский 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тудент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male student)</a:t>
            </a: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тудентка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female stud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ктёр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actor)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ктриса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actr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портсмен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sportsman)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портсменка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sportswom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едбрат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male nurse)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едсестра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female nur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енсионер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retired man)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енсионерка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retired wom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481040" indent="-16452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омохозяйка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(housewi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0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147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2560" y="121392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Мужской род</a:t>
            </a: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Женский ро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врач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</a:rPr>
              <a:t>(doctor)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врач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</a:rPr>
              <a:t>(doct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доктор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</a:rPr>
              <a:t>(doctor)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доктор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</a:rPr>
              <a:t>(doct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инженер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</a:rPr>
              <a:t>(engineer)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инженер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</a:rPr>
              <a:t>(engine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учёный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</a:rPr>
              <a:t>(scientist)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учёный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</a:rPr>
              <a:t>(scientis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хирург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</a:rPr>
              <a:t>(surgeon)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хирург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</a:rPr>
              <a:t>(surge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терапевт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b0f0"/>
                </a:solidFill>
                <a:latin typeface="Calibri"/>
              </a:rPr>
              <a:t>(therapist)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терапевт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b0f0"/>
                </a:solidFill>
                <a:latin typeface="Calibri"/>
              </a:rPr>
              <a:t>(therapis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стоматолог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b0f0"/>
                </a:solidFill>
                <a:latin typeface="Calibri"/>
              </a:rPr>
              <a:t>(dentist)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стоматолог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b0f0"/>
                </a:solidFill>
                <a:latin typeface="Calibri"/>
              </a:rPr>
              <a:t>(dentis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преподаватель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b0f0"/>
                </a:solidFill>
                <a:latin typeface="Calibri"/>
              </a:rPr>
              <a:t>(lecturer)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преподавательница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b0f0"/>
                </a:solidFill>
                <a:latin typeface="Calibri"/>
              </a:rPr>
              <a:t>(lectur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04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178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кажите, кого вы видите на картинках.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Say who you see on the pi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C:\Users\home\Desktop\harry-020214-fix.jpg"/>
          <p:cNvPicPr/>
          <p:nvPr/>
        </p:nvPicPr>
        <p:blipFill>
          <a:blip r:embed="rId1"/>
          <a:stretch/>
        </p:blipFill>
        <p:spPr>
          <a:xfrm>
            <a:off x="142920" y="1285920"/>
            <a:ext cx="28573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C:\Users\home\Desktop\спортсмен-и-спортсменка-тряся-руки-76736826.jpg"/>
          <p:cNvPicPr/>
          <p:nvPr/>
        </p:nvPicPr>
        <p:blipFill>
          <a:blip r:embed="rId2"/>
          <a:stretch/>
        </p:blipFill>
        <p:spPr>
          <a:xfrm>
            <a:off x="3143160" y="1285920"/>
            <a:ext cx="300060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C:\Users\home\Desktop\60907414_447258459436947_6792394567061602304_n.jpg"/>
          <p:cNvPicPr/>
          <p:nvPr/>
        </p:nvPicPr>
        <p:blipFill>
          <a:blip r:embed="rId3"/>
          <a:stretch/>
        </p:blipFill>
        <p:spPr>
          <a:xfrm>
            <a:off x="6215040" y="1357200"/>
            <a:ext cx="250020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C:\Users\home\Desktop\top-10-stran-s-samymi-vysokimi-pensiyami-1.jpg"/>
          <p:cNvPicPr/>
          <p:nvPr/>
        </p:nvPicPr>
        <p:blipFill>
          <a:blip r:embed="rId4"/>
          <a:stretch/>
        </p:blipFill>
        <p:spPr>
          <a:xfrm>
            <a:off x="142920" y="3143160"/>
            <a:ext cx="2219400" cy="1524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C:\Users\home\Desktop\d4765307-1947-4040-8090-e79b0686bc8c.jpg"/>
          <p:cNvPicPr/>
          <p:nvPr/>
        </p:nvPicPr>
        <p:blipFill>
          <a:blip r:embed="rId5"/>
          <a:stretch/>
        </p:blipFill>
        <p:spPr>
          <a:xfrm>
            <a:off x="5429160" y="3214800"/>
            <a:ext cx="1895400" cy="1733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ome\Desktop\unnamed.jpg"/>
          <p:cNvPicPr/>
          <p:nvPr/>
        </p:nvPicPr>
        <p:blipFill>
          <a:blip r:embed="rId6"/>
          <a:stretch/>
        </p:blipFill>
        <p:spPr>
          <a:xfrm>
            <a:off x="7143840" y="3000240"/>
            <a:ext cx="2000160" cy="185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home\Desktop\2336248872.jpg"/>
          <p:cNvPicPr/>
          <p:nvPr/>
        </p:nvPicPr>
        <p:blipFill>
          <a:blip r:embed="rId7"/>
          <a:stretch/>
        </p:blipFill>
        <p:spPr>
          <a:xfrm>
            <a:off x="2428920" y="3143160"/>
            <a:ext cx="2905200" cy="1825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C:\Users\home\Desktop\cartoon-stock-photography-royalty-free-scientists-elderly-chemistry-experiment-cartoon-man-the-scientist-science-experiment.jpg"/>
          <p:cNvPicPr/>
          <p:nvPr/>
        </p:nvPicPr>
        <p:blipFill>
          <a:blip r:embed="rId8"/>
          <a:stretch/>
        </p:blipFill>
        <p:spPr>
          <a:xfrm>
            <a:off x="214200" y="471492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home\Desktop\images (1).jpg"/>
          <p:cNvPicPr/>
          <p:nvPr/>
        </p:nvPicPr>
        <p:blipFill>
          <a:blip r:embed="rId9"/>
          <a:stretch/>
        </p:blipFill>
        <p:spPr>
          <a:xfrm>
            <a:off x="2000160" y="5000760"/>
            <a:ext cx="2390760" cy="1643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C:\Users\home\Desktop\images1.jpg"/>
          <p:cNvPicPr/>
          <p:nvPr/>
        </p:nvPicPr>
        <p:blipFill>
          <a:blip r:embed="rId10"/>
          <a:stretch/>
        </p:blipFill>
        <p:spPr>
          <a:xfrm>
            <a:off x="4500720" y="5000760"/>
            <a:ext cx="2361960" cy="1714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C:\Users\home\Desktop\18001480_303.jpg"/>
          <p:cNvPicPr/>
          <p:nvPr/>
        </p:nvPicPr>
        <p:blipFill>
          <a:blip r:embed="rId11"/>
          <a:stretch/>
        </p:blipFill>
        <p:spPr>
          <a:xfrm>
            <a:off x="6929280" y="5000760"/>
            <a:ext cx="221472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05" descr=""/>
          <p:cNvPicPr/>
          <p:nvPr/>
        </p:nvPicPr>
        <p:blipFill>
          <a:blip r:embed="rId1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47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e9863328b991c6d33313c4c0095d59b3"/>
          <p:cNvPicPr/>
          <p:nvPr/>
        </p:nvPicPr>
        <p:blipFill>
          <a:blip r:embed="rId1"/>
          <a:stretch/>
        </p:blipFill>
        <p:spPr>
          <a:xfrm>
            <a:off x="428760" y="1285920"/>
            <a:ext cx="2643120" cy="1857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kassa_gallery"/>
          <p:cNvPicPr/>
          <p:nvPr/>
        </p:nvPicPr>
        <p:blipFill>
          <a:blip r:embed="rId2"/>
          <a:stretch/>
        </p:blipFill>
        <p:spPr>
          <a:xfrm>
            <a:off x="3643200" y="128592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1268139460_79422722_2----"/>
          <p:cNvPicPr/>
          <p:nvPr/>
        </p:nvPicPr>
        <p:blipFill>
          <a:blip r:embed="rId3"/>
          <a:stretch/>
        </p:blipFill>
        <p:spPr>
          <a:xfrm>
            <a:off x="6500880" y="128592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7"/>
          <p:cNvSpPr/>
          <p:nvPr/>
        </p:nvSpPr>
        <p:spPr>
          <a:xfrm>
            <a:off x="0" y="321480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, учительница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teac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3643200" y="314316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ссир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cashier)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нтехник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pl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9" descr="0010-009-Elektrik"/>
          <p:cNvPicPr/>
          <p:nvPr/>
        </p:nvPicPr>
        <p:blipFill>
          <a:blip r:embed="rId4"/>
          <a:stretch/>
        </p:blipFill>
        <p:spPr>
          <a:xfrm>
            <a:off x="1500120" y="364320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489577-10430-52"/>
          <p:cNvPicPr/>
          <p:nvPr/>
        </p:nvPicPr>
        <p:blipFill>
          <a:blip r:embed="rId5"/>
          <a:stretch/>
        </p:blipFill>
        <p:spPr>
          <a:xfrm>
            <a:off x="4929120" y="3571920"/>
            <a:ext cx="2357640" cy="1714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535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ик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Times New Roman"/>
              </a:rPr>
              <a:t>electrician)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икмахер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Times New Roman"/>
              </a:rPr>
              <a:t>hairdres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06" descr=""/>
          <p:cNvPicPr/>
          <p:nvPr/>
        </p:nvPicPr>
        <p:blipFill>
          <a:blip r:embed="rId6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36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17"/>
          <p:cNvPicPr/>
          <p:nvPr/>
        </p:nvPicPr>
        <p:blipFill>
          <a:blip r:embed="rId1"/>
          <a:stretch/>
        </p:blipFill>
        <p:spPr>
          <a:xfrm>
            <a:off x="714240" y="1500120"/>
            <a:ext cx="2857680" cy="17146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povar"/>
          <p:cNvPicPr/>
          <p:nvPr/>
        </p:nvPicPr>
        <p:blipFill>
          <a:blip r:embed="rId2"/>
          <a:stretch/>
        </p:blipFill>
        <p:spPr>
          <a:xfrm>
            <a:off x="4714920" y="150012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untitled"/>
          <p:cNvPicPr/>
          <p:nvPr/>
        </p:nvPicPr>
        <p:blipFill>
          <a:blip r:embed="rId3"/>
          <a:stretch/>
        </p:blipFill>
        <p:spPr>
          <a:xfrm>
            <a:off x="714240" y="3786120"/>
            <a:ext cx="2857680" cy="17146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4iamo2dfe1zmtxpb"/>
          <p:cNvPicPr/>
          <p:nvPr/>
        </p:nvPicPr>
        <p:blipFill>
          <a:blip r:embed="rId4"/>
          <a:stretch/>
        </p:blipFill>
        <p:spPr>
          <a:xfrm>
            <a:off x="5000760" y="3714840"/>
            <a:ext cx="192852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3335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смонав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  <a:ea typeface="Arial"/>
              </a:rPr>
              <a:t>(astronaut)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ар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  <a:ea typeface="Arial"/>
              </a:rPr>
              <a:t>(c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5644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дитель  </a:t>
            </a:r>
            <a:r>
              <a:rPr b="1" lang="ru-RU" sz="1800" spc="-1" strike="noStrike">
                <a:solidFill>
                  <a:srgbClr val="00b0f0"/>
                </a:solidFill>
                <a:latin typeface="Calibri"/>
                <a:ea typeface="Arial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  <a:ea typeface="Arial"/>
              </a:rPr>
              <a:t>driver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юардесса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  <a:ea typeface="Arial"/>
              </a:rPr>
              <a:t>(air hostes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7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30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5480" y="1785600"/>
            <a:ext cx="8358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Скажите, пожалуйста, кто э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Это мой от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А кто о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Он инжен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кажи, пожалуйста, кто т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Я студен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home\Desktop\ingener.jpg"/>
          <p:cNvPicPr/>
          <p:nvPr/>
        </p:nvPicPr>
        <p:blipFill>
          <a:blip r:embed="rId1"/>
          <a:stretch/>
        </p:blipFill>
        <p:spPr>
          <a:xfrm>
            <a:off x="3714840" y="2214720"/>
            <a:ext cx="3571920" cy="19285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C:\Users\home\Desktop\751e9fafbb9ac85e0bb2a1f82acbfa58.JPG"/>
          <p:cNvPicPr/>
          <p:nvPr/>
        </p:nvPicPr>
        <p:blipFill>
          <a:blip r:embed="rId2"/>
          <a:stretch/>
        </p:blipFill>
        <p:spPr>
          <a:xfrm>
            <a:off x="571680" y="4071960"/>
            <a:ext cx="2286000" cy="1370160"/>
          </a:xfrm>
          <a:prstGeom prst="rect">
            <a:avLst/>
          </a:prstGeom>
          <a:ln w="0">
            <a:noFill/>
          </a:ln>
        </p:spPr>
      </p:pic>
      <p:pic>
        <p:nvPicPr>
          <p:cNvPr id="99" name="08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55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480" y="1642680"/>
            <a:ext cx="86439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кажи,  кто э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Это моя тёт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А кто он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Она медсест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Извините, пожалуйста, вы вра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Да, я вр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:\Users\home\Desktop\physician-fotolia-doctor-of-medicine-doctors-and-nurses-thumbnail.jpg"/>
          <p:cNvPicPr/>
          <p:nvPr/>
        </p:nvPicPr>
        <p:blipFill>
          <a:blip r:embed="rId1"/>
          <a:stretch/>
        </p:blipFill>
        <p:spPr>
          <a:xfrm>
            <a:off x="3857760" y="1714680"/>
            <a:ext cx="2643120" cy="2500200"/>
          </a:xfrm>
          <a:prstGeom prst="rect">
            <a:avLst/>
          </a:prstGeom>
          <a:ln w="0">
            <a:noFill/>
          </a:ln>
        </p:spPr>
      </p:pic>
      <p:pic>
        <p:nvPicPr>
          <p:cNvPr id="103" name="09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786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3T08:04:15Z</dcterms:created>
  <dc:creator>USER</dc:creator>
  <dc:description/>
  <dc:language>en-US</dc:language>
  <cp:lastModifiedBy>Melissan</cp:lastModifiedBy>
  <dcterms:modified xsi:type="dcterms:W3CDTF">2020-10-06T11:54:59Z</dcterms:modified>
  <cp:revision>174</cp:revision>
  <dc:subject/>
  <dc:title>Урок 1</dc:title>
</cp:coreProperties>
</file>